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AC5-0EA2-4E19-BEA5-61B11035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504-90C6-457E-A3E1-53A29D3A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8D543-4C9B-4A97-8316-4218EB65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B8DE3-3492-4B9D-BF4A-705876C1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171F8-9916-4E48-844C-49735163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0D550-9653-4D62-A0F9-FAD96AC1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BB1F0-A413-4CF9-8A69-4251BAC6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AFFE3-A86A-42D4-808F-DF3BE73C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1620A-4484-472C-BB5C-5EE900EF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8BB1A-948F-4311-B2A5-1F0C54B5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87D54-28A8-441A-B0F9-C7352EA0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EC2F8-2279-48E6-B7D1-FE458402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53C-A15F-4C05-BBDB-7268CB27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9F26E-272C-450A-92C4-FE4FAC74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302A7-0A1F-4555-8B7F-E88D5C92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D6C61-E726-4D62-A3C5-34C04BAE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7BCD4-D838-4FF9-B60A-B7ECB1A9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247DC-598D-4A82-A26C-131ED391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03E79-D28F-4383-AD66-B7395076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C8D27-9645-4883-B8BD-EDD1D487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585AD-1E59-4361-802C-DF9DFF8C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6BCC5-F5F0-43B6-80DC-D0483F99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83DED-B09B-49DA-9443-AE23EA90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619-997B-448A-9121-86E03B3A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4B6C8-86C7-4550-913C-08B2A533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1FCB3-9505-4F68-8AB4-24FE68C2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39A7C-66EF-4AF9-AAEC-9B78C019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B1198-D2E4-48FB-AE14-F7024A95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DC380-A297-4C46-AA44-0B72F58A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0689B-439F-487D-97C5-26C8B71A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6C148-7871-41C1-B15C-67E1C26F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21FDE-AA22-4033-BBBC-E1EE7289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6912A-6233-4A64-816E-06E013BC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562FA-6FCA-4E68-AD3E-C2BBE138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3BB3-E07B-4B3D-B9D2-8C92F6F2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30234-DA71-4737-B30E-4FB6AD95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11A98-23C2-4A8C-AC34-D263FC92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DD519-FBDA-4F37-B32C-4245CD8C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07C1F-64D0-428F-A3A1-80DEA357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08EE0-B224-4B4F-92CB-DD270E6E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C1505-5535-4DC6-B922-781EB3A9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18490-85B7-49BD-913F-D0132727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11B66-50E7-42ED-B25C-EBEF8388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3F032-9F22-4A7E-A73B-EE9B9ED6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2C40B-236A-43CD-BFAE-DEB3FEF3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5210-94F3-4859-AB32-15B1EDAA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A99A8-BB8F-4A56-9F95-8454C14C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39A73-3803-4E39-B875-0127D6CB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A2444-2D5A-423B-87F8-FE9EA7B0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FD3C2-5A0F-4EEE-B498-23312628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37DD0-5238-4A16-906D-4056A286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28C04-DF73-4266-98B3-56F3A97B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8D54B-56D0-4855-B88D-621B2969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CCE53-0A7E-47FC-9666-03D85EF8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46E0A-8C2C-4C53-9849-DC6571C1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03C26-2EBA-4FE4-B78D-B6CA5D37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8987-68A9-4048-AAE3-5C9331B6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92DD8-DF45-4AEA-A68A-1977D83E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EBCD1-96E7-4EDA-886A-A5316751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4166A-0EB8-42B3-B72F-FEC5FB24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D7137-9A3C-4543-ACBA-34426385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F9A74-CE24-4CF7-934E-BB5E10C9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D78A4-9BFB-4D0F-8CD1-C7B8318D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738FC-FA15-4ED9-9B1E-6C6917AC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F3BAB-EB61-487F-88CE-573BE03F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57865-5094-4200-86DD-0EF8F285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60072-5D54-4BFF-BB79-2F41E4F1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ACD5-86B4-4029-B383-E8552770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4EAC5-9A6A-40C2-8717-2908E5AF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8EAFC-6E80-4141-B324-895CD9C5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A8B61-DBA8-4CAB-B34F-446F373E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8E79A-DCFC-4B32-BB6E-FA0FB7A2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CD84DF-4905-42C5-A054-EBE873F7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2C5E4-A8CA-4A40-9DC6-934497E6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F7BA9-200E-4CC9-92F1-A20598B9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7046D-14B4-4F00-86C3-E6973573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85C58E-40EE-4D42-9204-E4B9BD4C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F5011-9306-47E7-8DEA-A9BD036E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7815-96AD-4DC2-BCDB-CABEE5EC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720938-9715-4B56-80DE-54E1AE27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948BB-4833-4325-91E7-8839E32F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3CB73-A52A-4C68-8C6A-C18DDA30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3CA276-01F4-4E6B-8B7E-1934D6CA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C22D08-B5AC-4EA5-A8C0-DCF6274E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83E388-0471-4BF4-9A8E-D8005FDB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8ACED-A822-406D-AB77-6C3A4466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672CC-3D36-4A5F-956B-3484338D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9AA3D-C192-4BBE-AC63-91EC3761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0B3D8-9DAD-4EFB-8807-CE2526F8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1DC9-ED97-43B5-A740-5BA6166A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00AC1-06E9-421B-9C90-CA99E589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45BFAB-4D2E-492F-A252-CBEE6107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A93C4-A544-4E61-8E0A-92466EA5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F1BCE6-198D-4EF8-BEB2-37F135E1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8F851-3987-40F4-838E-638247F9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B90283-8A9D-4BA6-B5F1-7563C3BD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9529B6-F15D-4532-806C-00BA92CE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0F18F-A9EB-4B34-9A52-A8E632F3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115E75-AA39-474C-B7E2-1ABDF34D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BBD6CC-567C-4B87-AA21-00935030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D9C4-FDB3-4A4F-AEBA-D89A9393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34B888-AE45-4D7B-80A3-B6B8C420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5AF5A-A079-46BC-BFAD-57694F45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60FF4C-7899-45EB-AA0D-54B45C09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D03A8D-790F-4C4F-B765-1A3A2657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918949-1BC2-47D7-93D2-C93F9ECA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5AF79B-BF4C-407D-9109-4946AB26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9F36B8-24B3-46A3-8756-322C298E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C39F30-CE7A-4778-BF16-DFD0F6FC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933CC4-D320-4BD8-B9A4-57453B46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D71191-D033-47F2-86D3-60EA6DF5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5B4-DE5B-4353-AA01-7B38E6BF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E626-6D75-4252-BC99-B29FB708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D8AD1A-4668-4744-BAEA-CF19DC04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56501-0159-4C39-BD32-A782974E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23864C-D3C0-4323-9E76-FAEB89DF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ECFFD6-BB8F-424B-8A0C-F86ADBF2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8FB408-19EB-4094-B310-F97E0E63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24E7F5-61D4-408C-B55E-561F6E29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5147FE-4F1C-4292-A526-98E86108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AFF3A1-8D80-41EF-8ED0-2B628F8D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13274F-94C4-4597-A3D3-B0978106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83AC8-F7F6-4050-85C1-88CFF28B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D80C-36BA-46AD-861C-C6459CB9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269CB2-1692-4FAA-B902-36A40D20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F78AB8-A02D-464F-A65B-16FA278F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15BA77-99BD-4EBC-8E7C-75F034BE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B363FC-2ABB-48B5-A5B4-4E1D90D3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30F867-AE8C-45BB-AF5E-96928444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19149C-B393-4B9C-A259-6E73A53A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D0B8A3-B3B0-4A03-A825-DEB9D6C7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469239-F672-4A3C-9A0F-EE55F58C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7A63F2-DB82-478C-9D8B-C65F50F2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3A3C60-190C-4E60-8F13-A2FFB092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3B3F-812D-4608-9796-1F3210B3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B8B82D-C760-4269-AC58-C3FC421D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E5297B-5548-457D-9E03-001127B8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A9DCD-FB3B-4AF9-8487-B7F3582E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F4B6D8-B287-4381-B02E-5A565F2D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5F45F1-DABA-47D5-BE94-6DE2CBB1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F90162-6368-4C78-95D8-9EBC27A6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CD6D37-8FDB-4844-B11F-83BEEA41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DBC770-EF6E-4D0E-97F2-3E48A3FD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B26206-89FD-478A-A868-BD9022BD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DF95A8-05F1-40DB-BDCF-FDBA6337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E117-EEAD-4295-A01A-A33C2528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BB0176-25B4-4BDD-99B3-50689616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DC8AAA-0927-40D1-9BCF-D754C6BF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72FD13-1B26-4E60-9838-0562132B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879F4A-F825-4296-8B1F-E4AFBBC9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2B7EF0-EEE2-489E-8F4F-C35D1367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68E8FF-C6F8-49B1-B9BD-A1070974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1FBC1E-D919-4038-B2E7-7315546E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30EA56-5DF3-40A9-9EE7-AACA20EF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0FD553-01BE-4492-95DD-CF643C0A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74F5AC-522E-49DF-8C6A-26E34165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2099-B915-42FB-8EF0-AA546B40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FE9270-86BB-4A39-9F1F-CC558B62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67D762-25BC-40DA-A567-2F02592C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C1187F-BBB4-49CB-A6D2-FC7A5CC5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829C86-1B87-47A4-99E8-2AB6B1E4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F3B613-7090-469A-A631-09BD0618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D19802-3745-4C3E-9BBA-4D49BBFA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2794BD-550A-49B1-9567-B39A2388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0C3C0-8612-48BA-AA11-4687356C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A918DC-F26D-421C-8690-06401B5A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919707-744D-4515-8C09-65E543D6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31907-33A6-4C1E-A168-23F350D5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FA5E38-BCFA-4437-8CD0-AF4B4E9C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3964DC-BD44-4223-B227-D1654567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E208C3-977E-4BA6-A01C-F0A6B20F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91F75-6877-47C4-B43B-F7051788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F767-CC2A-47F6-98F6-0F8402AD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1B5BC-358A-4697-AE77-63769DC7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11D4D-C57C-4081-98F0-36B5DCBB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9F4-48A2-4569-9732-CFD79984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8C22-F922-47CF-A30E-DEDC988A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1517F-BA62-44C9-90BE-C05A38AE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75644-2E15-43C6-BE84-81850BE8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36F22-3AB5-417D-BD48-4AADA0BA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A5EBA-2048-4790-96B1-92F4A8BC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AA063-9EE3-43B6-A0DA-CBDF8568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59348-3992-4910-B4C3-CE2E030C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D8CC8-4498-4EF5-B3C5-7C3320D4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A7C00-A00D-46DC-9ADC-3D2B4125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F68BC-C599-41CF-AC82-AE215FF5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DD3-027E-4833-BFC4-57753213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CD0BC-6D99-4468-8389-D2EB95BB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74986-6201-4FE4-AB89-7E9C0A63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A6CB6-A17D-4335-8A2A-0E0B45F8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89D83-CDB3-48F5-82D3-79E7A685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24AD-457C-462B-862C-7997D78A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17A30-00CD-415E-A681-3B12F73E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48457-3C49-448B-AEA1-A7FE031E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5D08D-666D-4C95-8A89-E8D3A80A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90212-65E5-47F4-90F1-F2381A25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259AC-52DC-41E7-83CF-2CDCCD36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5A3E-17CF-4A9C-BB4A-43045AF1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6BD51-9C25-4F61-AE26-43B955C3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121D0-E621-4BC0-AE40-2680A45F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3A203-3B12-4112-9124-30A7725C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CA2FD-9982-4BB0-9277-1F6B863A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FDCE0-3357-4BD1-84EB-27B70DF8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637FB-DF61-4999-A235-0795DF0D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63503-11F5-4AF4-9780-57FA8539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32DF7-F7AD-42F2-AA37-04AA5205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304B0-9E60-431E-B980-A366D3FF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B760C-4466-4CB7-B839-E899CE4F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7B8B-946E-4E65-8FC9-A8370161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CBEC6-DAD1-4DF5-AAD1-2789A3D3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BC88C-9ABE-413B-9455-A7A54279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B77B1-97FE-4B61-B2F8-D276356E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D94AF-2E16-4E68-9BEF-DBF7E2F1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B7984-0894-48B0-BFCB-0646A6BD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020CA-C4D3-41B0-A6B4-A9457A59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7DDFC-0D10-4850-B4B8-3728C054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78FA6-9C16-40EA-A64B-630409FF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D38F1-052B-4B21-B967-8338647E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221FB-FA8A-4F3C-B1DE-E06B0543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3A1-7728-4FB7-A7F9-930A501E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A4C9B-09C3-4096-9E88-C13675F6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F9F68-F63D-4596-84F2-E462E780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1B250-2BE3-4533-8F0B-11E14DCF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CA0CA-CEA0-42F4-8460-F1A37A47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6432D-FB40-4213-95C0-B7162A75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4D94E-5480-43AE-BDD7-CB7A5C03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66F65-F879-48B2-BAC3-E228D619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1FB1A-B5DD-475C-9659-0A006696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54949-58A1-448E-BD5E-838E0670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8E591-2C02-4F36-9AC1-E0AB5067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BD2-E4AD-4B00-AAB7-827E09CA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6A785-F96A-4C54-9D8D-5D25DCA4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4AEA6-2C64-4F8C-BBF0-45393E5F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03DA1-78A9-448F-86AA-56B06773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3C214-48D0-46A8-B53D-DBBA17B7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037A9-8705-4D89-AEBF-E47A8760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26282-4C3C-4B23-B800-07DD759B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E1D8E-8D39-4ACC-94F6-8FC1CF06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A57D3-33B6-4CC8-A1A4-E9FBB5B9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AF21D-DED5-4F88-A9EF-0BE86218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9A918-5FEF-4953-BF60-FD1FAED3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C73-BDD5-4755-983E-24F5773F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68355-1851-4FA6-AEEA-FAAC98D5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3B77F-FF7E-4B51-BB02-3268F3C6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E6B9C-CC68-4F18-9EA7-CCEBC5D7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E270A-110C-462D-B5F3-E6FE99E5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43676-3C36-4F3A-95DA-537086B5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3268B-75E4-4FD6-AFBA-44B4FB5B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241E8-0F9E-4DEC-9572-48F87873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57B49-3D8E-4FF6-818B-B6E661A1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CDC82-90EE-4D3D-9F27-6CCE1626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CB4F1-E66C-453A-A334-EDD8D93B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28AC-2FCD-49A3-9276-56BC48E8B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E7FE-8B4C-4439-B814-E934C574F5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2DAA-3DDB-4FAB-9E7D-4E0C7B8B99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7890-C0F3-4169-8B38-D4D6EB850E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4B3C-EA5D-4D34-8DC1-0C116CB475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A149-FFA6-4D1D-938F-D783155F68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9A7A-2D69-4691-928A-14AA8E81F0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DC43-D8B2-4586-A3E0-B6BF68E900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79FC-C4C7-4DA0-A358-38D1F57601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3035-155B-4A11-A9BA-D0E2BB4B4D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F174-A6D0-4CF4-A982-D7B7967A7E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36E6-A9F1-4683-810F-B09898E4A2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A787-383C-43BB-B1F5-4120E8B01D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3D35-9F0D-4DA7-A3C1-7503D2232D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AF50-D1C1-4B1C-8B05-FB026A445B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8556-15BE-4F38-94A4-D6D49E1ABF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D4FE-1F60-4D5D-98AD-A55218219B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E88B-C1A9-492A-92CC-AA98A0F86B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97C2-5DF1-4385-B88E-E5F71A474D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700C-9699-4C2E-AF91-79B08F2C39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ECE0-40C2-49F2-9580-31AECDEC98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9D9C-30CF-48C4-8984-C995D32855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2F30-C4D0-4254-A584-50DA8583D1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4F5E-7C37-4208-8D91-8C838BFCE6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7129-FC28-4435-B1C2-314BA05D5D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B4F8-1DD5-49C0-BEFC-F5564994C9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DCBA-96DF-49C8-BEAB-6DF1CF9AEF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6C71-8E5E-4AD4-89D4-2F301BB6D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75FE-C2CB-445A-9E43-A3087AF65F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8FD0-EE16-42C4-8865-56C3724D81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3AFE-DD84-46B5-B717-1B51B89585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FC24-8AF1-48C9-9D85-9A3125E9B9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72FD-8A1C-49F9-9F85-31EA30F6D5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FADE-5B48-45D1-B7F2-CAED955A12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26D6-CB1A-4CD0-B860-631089FE7B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7F79-88DA-4A63-86D3-38CF448668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08F3-0147-4CC0-BA3E-938FB50AF0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7D00-955E-47F4-A732-34F1F2C4A4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64FE-9177-4635-BA6C-17F1389FD6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941D-9E3F-43E0-8439-05FC99E6C3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38240" y="2852640"/>
            <a:ext cx="8867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1" descr=""/>
          <p:cNvPicPr/>
          <p:nvPr/>
        </p:nvPicPr>
        <p:blipFill>
          <a:blip r:embed="rId1"/>
          <a:stretch/>
        </p:blipFill>
        <p:spPr>
          <a:xfrm>
            <a:off x="561960" y="1195560"/>
            <a:ext cx="80200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1057320" y="3129120"/>
            <a:ext cx="702936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500040" y="676440"/>
            <a:ext cx="8229600" cy="618156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928800" y="22147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928800" y="3500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4"/>
          <p:cNvSpPr/>
          <p:nvPr/>
        </p:nvSpPr>
        <p:spPr>
          <a:xfrm>
            <a:off x="928800" y="5143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504720" y="1738440"/>
            <a:ext cx="8134560" cy="338112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928800" y="1714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857160" y="3429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500040" y="1428840"/>
            <a:ext cx="8182080" cy="20955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" descr=""/>
          <p:cNvPicPr/>
          <p:nvPr/>
        </p:nvPicPr>
        <p:blipFill>
          <a:blip r:embed="rId2"/>
          <a:stretch/>
        </p:blipFill>
        <p:spPr>
          <a:xfrm>
            <a:off x="500040" y="3571920"/>
            <a:ext cx="8229600" cy="2514600"/>
          </a:xfrm>
          <a:prstGeom prst="rect">
            <a:avLst/>
          </a:prstGeom>
          <a:ln w="0">
            <a:noFill/>
          </a:ln>
        </p:spPr>
      </p:pic>
      <p:sp>
        <p:nvSpPr>
          <p:cNvPr id="1033" name="矩形 3"/>
          <p:cNvSpPr/>
          <p:nvPr/>
        </p:nvSpPr>
        <p:spPr>
          <a:xfrm>
            <a:off x="2500200" y="1785960"/>
            <a:ext cx="15004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2143080" y="2643120"/>
            <a:ext cx="1571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4572000" y="357192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2071800" y="4429080"/>
            <a:ext cx="1643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7"/>
          <p:cNvSpPr/>
          <p:nvPr/>
        </p:nvSpPr>
        <p:spPr>
          <a:xfrm>
            <a:off x="3000240" y="5286240"/>
            <a:ext cx="20005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466560" y="1509840"/>
            <a:ext cx="8210880" cy="383832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2714760" y="2357280"/>
            <a:ext cx="10000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4214880" y="2357280"/>
            <a:ext cx="12859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7143840" y="2357280"/>
            <a:ext cx="5713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928800" y="3643200"/>
            <a:ext cx="11430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2571840" y="3643200"/>
            <a:ext cx="11430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7"/>
          <p:cNvSpPr/>
          <p:nvPr/>
        </p:nvSpPr>
        <p:spPr>
          <a:xfrm>
            <a:off x="4000680" y="3643200"/>
            <a:ext cx="9284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"/>
          <p:cNvSpPr/>
          <p:nvPr/>
        </p:nvSpPr>
        <p:spPr>
          <a:xfrm>
            <a:off x="6729480" y="3639960"/>
            <a:ext cx="6429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9"/>
          <p:cNvSpPr/>
          <p:nvPr/>
        </p:nvSpPr>
        <p:spPr>
          <a:xfrm>
            <a:off x="7786800" y="362916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0"/>
          <p:cNvSpPr/>
          <p:nvPr/>
        </p:nvSpPr>
        <p:spPr>
          <a:xfrm>
            <a:off x="1071720" y="407196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1"/>
          <p:cNvSpPr/>
          <p:nvPr/>
        </p:nvSpPr>
        <p:spPr>
          <a:xfrm>
            <a:off x="4000680" y="4915080"/>
            <a:ext cx="1143000" cy="371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2"/>
          <p:cNvSpPr/>
          <p:nvPr/>
        </p:nvSpPr>
        <p:spPr>
          <a:xfrm>
            <a:off x="6929280" y="4929120"/>
            <a:ext cx="13575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538200" y="2176560"/>
            <a:ext cx="8067600" cy="2504880"/>
          </a:xfrm>
          <a:prstGeom prst="rect">
            <a:avLst/>
          </a:prstGeom>
          <a:ln w="0">
            <a:noFill/>
          </a:ln>
        </p:spPr>
      </p:pic>
      <p:sp>
        <p:nvSpPr>
          <p:cNvPr id="1051" name="矩形 2"/>
          <p:cNvSpPr/>
          <p:nvPr/>
        </p:nvSpPr>
        <p:spPr>
          <a:xfrm>
            <a:off x="1928880" y="2571840"/>
            <a:ext cx="2000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3"/>
          <p:cNvSpPr/>
          <p:nvPr/>
        </p:nvSpPr>
        <p:spPr>
          <a:xfrm>
            <a:off x="5857920" y="2571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"/>
          <p:cNvSpPr/>
          <p:nvPr/>
        </p:nvSpPr>
        <p:spPr>
          <a:xfrm>
            <a:off x="7715160" y="257184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"/>
          <p:cNvSpPr/>
          <p:nvPr/>
        </p:nvSpPr>
        <p:spPr>
          <a:xfrm>
            <a:off x="1000080" y="3000240"/>
            <a:ext cx="7146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6"/>
          <p:cNvSpPr/>
          <p:nvPr/>
        </p:nvSpPr>
        <p:spPr>
          <a:xfrm>
            <a:off x="2857680" y="385776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7"/>
          <p:cNvSpPr/>
          <p:nvPr/>
        </p:nvSpPr>
        <p:spPr>
          <a:xfrm>
            <a:off x="4714920" y="385776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8"/>
          <p:cNvSpPr/>
          <p:nvPr/>
        </p:nvSpPr>
        <p:spPr>
          <a:xfrm>
            <a:off x="6086520" y="3822840"/>
            <a:ext cx="642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9"/>
          <p:cNvSpPr/>
          <p:nvPr/>
        </p:nvSpPr>
        <p:spPr>
          <a:xfrm>
            <a:off x="7143840" y="385776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10"/>
          <p:cNvSpPr/>
          <p:nvPr/>
        </p:nvSpPr>
        <p:spPr>
          <a:xfrm>
            <a:off x="1143000" y="428616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476280" y="766800"/>
            <a:ext cx="8191440" cy="5324400"/>
          </a:xfrm>
          <a:prstGeom prst="rect">
            <a:avLst/>
          </a:prstGeom>
          <a:ln w="0">
            <a:noFill/>
          </a:ln>
        </p:spPr>
      </p:pic>
      <p:sp>
        <p:nvSpPr>
          <p:cNvPr id="1061" name="矩形 2"/>
          <p:cNvSpPr/>
          <p:nvPr/>
        </p:nvSpPr>
        <p:spPr>
          <a:xfrm>
            <a:off x="1477800" y="3497400"/>
            <a:ext cx="500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3"/>
          <p:cNvSpPr/>
          <p:nvPr/>
        </p:nvSpPr>
        <p:spPr>
          <a:xfrm>
            <a:off x="1579680" y="4314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4"/>
          <p:cNvSpPr/>
          <p:nvPr/>
        </p:nvSpPr>
        <p:spPr>
          <a:xfrm>
            <a:off x="4214880" y="5572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2" descr=""/>
          <p:cNvPicPr/>
          <p:nvPr/>
        </p:nvPicPr>
        <p:blipFill>
          <a:blip r:embed="rId1"/>
          <a:stretch/>
        </p:blipFill>
        <p:spPr>
          <a:xfrm>
            <a:off x="728640" y="2414520"/>
            <a:ext cx="7686720" cy="2028960"/>
          </a:xfrm>
          <a:prstGeom prst="rect">
            <a:avLst/>
          </a:prstGeom>
          <a:ln w="0">
            <a:noFill/>
          </a:ln>
        </p:spPr>
      </p:pic>
      <p:sp>
        <p:nvSpPr>
          <p:cNvPr id="1065" name="矩形 2"/>
          <p:cNvSpPr/>
          <p:nvPr/>
        </p:nvSpPr>
        <p:spPr>
          <a:xfrm>
            <a:off x="1785960" y="27860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3"/>
          <p:cNvSpPr/>
          <p:nvPr/>
        </p:nvSpPr>
        <p:spPr>
          <a:xfrm>
            <a:off x="3571920" y="3643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8:1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